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wmf" ContentType="image/x-wmf"/>
  <Override PartName="/ppt/media/image6.png" ContentType="image/png"/>
  <Override PartName="/ppt/media/image19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  <p:sldId id="276" r:id="rId44"/>
    <p:sldId id="277" r:id="rId45"/>
    <p:sldId id="278" r:id="rId46"/>
    <p:sldId id="279" r:id="rId47"/>
    <p:sldId id="28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slide" Target="slides/slide21.xml"/><Relationship Id="rId45" Type="http://schemas.openxmlformats.org/officeDocument/2006/relationships/slide" Target="slides/slide22.xml"/><Relationship Id="rId46" Type="http://schemas.openxmlformats.org/officeDocument/2006/relationships/slide" Target="slides/slide23.xml"/><Relationship Id="rId47" Type="http://schemas.openxmlformats.org/officeDocument/2006/relationships/slide" Target="slides/slide24.xml"/><Relationship Id="rId48" Type="http://schemas.openxmlformats.org/officeDocument/2006/relationships/slide" Target="slides/slide2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A62F-6AB4-4B12-8959-E7FB15A35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1599-0CA0-40FD-B832-5D5C3BE0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C8477B-98E7-42AB-9202-6968B48E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4C3F9C-5194-408C-BF2C-AD085456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BFFF5A-2372-4E07-ACE0-C55B66F6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114C22-0596-4507-907E-9B0F2609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5E457F-31B0-4288-AD2E-50F24555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C2BE8E-D4BD-466E-B8F8-FC28C57E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BB3E16-1696-47A0-B538-7BCF219F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98F2E1-5377-4C4E-A083-45A88D4A8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1B1D50-4ECC-409F-BCD9-B8BEB565C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F71CD-6B8E-4E77-9508-6FC6BC53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4DFE-A0FA-477A-B6E1-A709367C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2ACF1-F79A-4368-AE83-59F9B0A1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536B8-45ED-403C-AE7C-70DCB675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C84B20-20E0-4CF0-AF1B-FB19DDB9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B5DE5F-4F87-443C-81D4-958354A0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79BA3-2903-4A98-B2EE-9A0C27D9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E7B46-A0F8-4756-9D44-B96B96E3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614A4-0BAA-4B6D-86CA-3422627C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48ADC-2C09-46E0-B7C7-74680012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E64AED-E706-4F41-B132-1A310334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1EB349-2EFA-4119-9531-7F78C9505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58DD-2414-4F1D-B7C7-2638D257C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F7F55-DF13-430C-93B9-E3D07D676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9C999-B0D1-43E0-B680-14FB1F449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2A2F8-8BE5-4A2D-9C7E-9AB93C61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F00AB-C293-440D-81DA-5A83F084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5F525-B12E-4F99-BDD2-D540158F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ACADF-A478-4C5D-88F6-54308114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1A1FA-4602-4FDA-9805-70253371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3B2FC-24BA-4BCB-9996-B0C5E03A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26A31-9C6A-4DC4-A06C-E4537167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CEEC7-B38C-4ECA-9138-7B0BBCFF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F732-50B3-4505-B4DE-6F3DAFFCD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39812-0217-4B83-BE27-D2D4D2A8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050F9-1AED-4F52-9297-D14C2EA9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4EC7E-9FB6-4D4B-AF57-57F6BF5E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658EFE-FC55-4A8A-8FC6-9ADF7B765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4CE905-4948-4F6F-AD2E-007D1E9B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B36E7F-FD00-4409-A605-C653CBEB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4C5914-ED9F-464A-8020-63D840CF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13007A-24A6-41CD-B285-39A542F1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4DACB-9DF9-4B2B-A843-155277F9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EF035-BA1E-47BF-9B3A-AD4F43AD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771D-C38C-4173-ABF7-264D63FE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380AFC-D78C-4480-BA5A-55B6468C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0717FF-ABDF-4BA8-ADA1-59391624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526D20-F7FD-43D9-9273-5D490312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740C1-438E-44C5-93CF-85BDE3B1C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85BE9-B9CB-41D7-A801-94C8A3B8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766955-5AB5-497C-9FA0-E4412B0F0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8ED188-6786-4025-9FE5-8B66C53E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37B640-146A-4DBF-9BB3-18808E46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4640FC-7D92-4E87-8CBF-6CCC9B68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C6178F-7173-40AC-9E16-C7B1CA73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1698-84E2-4DA5-99A7-14ADA5F3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8E33EB-ACB8-49BE-BA02-B7E9D663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E7D020-061F-4BB5-B1D9-C59FE1EF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AA0615-7BFC-4BBD-8DB2-DF962655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ED9577-2ADF-4D46-936D-ECB52E1F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65BA0E-40B4-4E40-848A-2A3ECA50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8ABF5D-6CBC-4D7A-87A4-860168732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ABD5A1-3E68-424F-939C-51AA3E239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0D2733-6ADA-4F95-B753-5A765AF9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7EB883-EED4-456C-B094-0B342663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F29B9A-6E2B-481C-9946-5E5625E9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AF38-97ED-40D4-842D-078FB36E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AD521F-E6D1-4A77-9185-6627575F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63EB14-9B24-4F3E-9407-6AC062B6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06A951-732A-4DDF-8E9D-036D84DF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53026F-0998-4833-A058-D8A37227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C41E09-BD07-4FFC-AD3F-FE147182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73C62F-207B-475C-8A75-9027B2D6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40DFA7-02F9-430C-BB11-D431B6BD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5EE41E-93F4-4670-86F0-0A0159528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09B387-28C4-4669-B88E-3E58313DC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05E377-A32C-4053-842E-DC5D7111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D4FA-8057-42C0-8365-D3A6A846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8D9BDD-00AA-4F98-9558-982D3D3A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88F4EF-FC02-4990-9618-6A8C9FCC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EE585A-53E5-4323-A437-86179230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80919E-BCC1-4319-A606-81EDE142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D82F4B-954F-4624-B04C-F5B1D289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56A7A4-793B-4F59-99AA-5B78362F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9E0C9B-E03F-4AFB-B27C-7259CB4E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1A61CF-D41D-46B4-AF6B-6890B83A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DE2B8A-8BA6-4FA5-8820-DD6057F2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E471D9-C96E-4342-AD79-B08131B62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8CAB-F916-4781-808C-7D1EE678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442DFB-3E5B-4E05-AF36-D0AC732F9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D599E10-38B4-4731-805E-A0D7A697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19C05F6-F461-4707-B3BD-88C0EC96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B148A35-CC00-4396-BA67-B8024A91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9363F7A-EF41-4440-B12E-A17D987B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7154D5D-5BC4-4191-9544-B86740BB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837F120-AEB3-4A13-93DE-6438DB83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942F8AA-07EA-4CE0-A211-DB7F0378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96F8831-B170-4367-BF2A-9B93F22C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ADB3318-A94D-46E1-8A67-6C87925F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2B68-A731-4792-A9CF-82D6B6A4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A478740-A38A-47B6-B9D9-1E45F80E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42A97A2-CD64-42E7-AC21-26AD81E6F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BA24792-0BCF-42F7-83E9-D3AF0692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43693C-96C7-4313-9243-E900BD88B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E1589D-D651-4C43-9581-342127A1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73C9FB-13E9-4771-9DB3-AFA997AB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34BEC1-4B03-4454-8B8B-F8673954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E05A33-B976-4B35-AB6E-A516746B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31ACE8-07EE-4AC4-AB02-EFB57490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AFF231-453C-434E-973A-C5A821A0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B979-0FC4-4556-A137-F260AC7A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E044-19CF-49D0-A530-A2468A4F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E55D2F-E0DA-429A-BB37-B43BB99D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F0F6A7-843F-4DAB-8462-15790E1C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2B1505-F8EE-4C65-89B7-F10D7239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E1D671-10AA-4355-90E6-2577F91D0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7D75B1-9DA5-40A8-9361-2605D0A5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CB2356-83CA-442C-B30E-F03C68B2F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E4DFD8-8059-4E61-884D-5E88B0F1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28AF6C-2874-438A-A0CD-2BC8A1D2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5717A5-A527-4DEF-A98E-90CC8D05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7D0086-7E2C-45AA-85A0-3178E390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316E-C073-45EA-96A8-DE425997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7D76C3-6F55-4B9C-A402-BE05B5FA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DDCD03-C3EF-4071-9339-72EF58B6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E19686-7972-435C-BEE0-B83AE81C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E2A1D8-2FC0-4516-9AB5-C16B2522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C4367E-3F1F-4241-B51E-87F1C143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896D23-11E2-4B95-8067-28605E433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32C9CB-048F-4FA4-BD52-6C75D40BD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FD0B5B-AD4C-4EB2-ACC7-9B38E8E4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1E520A-6583-4416-97C6-4B86CA37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61CF69-3C07-4DD9-B0EC-5A52329C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B93B-B195-46A4-A300-D040F3C4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FC3820-A61A-4C98-B47C-5F85B7FC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304A4D-A536-47E9-8F00-69704FD2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318056-96F7-4FC7-AEC7-7C6384F6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2FDF84-DBAE-4314-98AF-F1E7E31C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806245-DD1F-4D96-83DB-E3999825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EF02C1-CC85-4A4E-8F1C-5DB84E3E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C6CB0B-A1E1-4365-8F36-A92AD123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04015A-277E-4CC7-B82A-93E6927C0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CF5245-0BCC-40AD-BB8C-5476B381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7965D1-A9B9-4FBE-8F81-4E05A77A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5ADA-2CED-41CC-9582-FB01BCA6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20BDAC-D6F7-498C-8854-24DF898D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E2A333-8A4C-45D5-9FE4-F12BFD35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0E5567-B580-4018-99A8-CEA3C080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C5E88A-D4E7-49FD-92ED-EC96B0DF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1DF5B8-2D97-4126-A257-145F03C1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ED0D47-5B13-4747-B9EA-5BB2BF77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D7B161-7150-4659-B23A-E6EE9A6F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B78A9B-0D93-4382-B173-62396447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AD9CBA-9AFC-4C26-9232-CDD78900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080675-3FC8-450F-881E-01841D58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E857-7C1B-46E2-8404-9EEC033D7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6305DC-EFC6-472F-A3DB-5E792E49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F89628-159F-4FD5-A645-66FCA641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6D9760-A372-426C-83B8-6CDBB5BD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17FB92-E678-4774-AB13-433AEF6B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147B62-399D-4982-B931-E25D51BA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4C7B47-5315-4F8E-8CCC-F23D36B4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F77402-9B52-4D1C-9DC9-550DC9CE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35CD7A-25BA-4C26-840A-41085729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22308D-2B36-4C86-A7F9-AF9310D4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D9E7FC-41C1-4ECF-9D4A-6792164C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E760AC-49FB-43B5-83EB-24C640C1C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12E126-98DF-4000-A43E-8BEEF7F4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AD2582-17B4-4D66-8616-11D13004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284126-4657-4CDC-BE22-E5DCE4821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DE7CB7-8E5B-49C6-BB50-F16435820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77DE78-705C-4640-8687-18C83025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0C19BA-ABB5-4F8D-A59D-06CDDA8B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5AA890-CFA2-4B2D-BE16-908F091F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BDDD92-E4D7-4452-A56F-6A474926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7F31E5-F1CC-4331-874A-7593A48F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863FFD-4F8A-4D96-B1D6-19F00980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B017EF-405B-4DCD-81B2-3706B73C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8C2C21-DC81-450F-9CB6-2AEA5929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4310A4-0080-40E2-8AFB-7C0C7C61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993151-309E-49A1-8F27-1FA9B717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4AF16C-EF8C-4A5A-B067-9817D92F9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7E6F95-B5D6-4F12-8FE3-9E9B092A5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13EC70-95F5-4E91-AD5E-1F377C41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A66B0C-51CD-48BA-91CE-DEBAFCAB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F63873-1AD9-4439-92C2-F09270B7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2C73-F988-4FFA-A78E-7ECF8C16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E245C7-A896-4A50-A707-CD0A5296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FB82F0-F67B-426D-86A1-62DFD44C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CDFB86-BA7B-4017-9E29-CABFEB5B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C73942-65B4-4F65-901E-BCF01211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46DC04-A391-4003-87FA-46698702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80DD56-D20B-42D8-AD1D-09EF1B173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604A5B-896D-4637-AAD9-CA2E605F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C2337-5EE1-4D17-9BB9-002432ABA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86749-6C56-4A5C-8FC3-24F6A980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5F273-693D-4981-A1CD-9BE18158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91A4-B5A8-443B-B5F3-18C71C1B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F541B-8D34-46D7-BBAF-BDF20AD0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C8DE8-ECB5-4178-A035-D6470A33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A6B63-CA23-4D58-8E08-7C49DA9E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37548-8A5B-418C-80BA-34128A0E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2646B-C531-4BFB-9134-51FAC40E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5706B-B521-4643-8FF0-C234B67E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5364D-8A21-4109-9FF0-45313C1A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E3F17-E1BF-4499-A3D2-C21249043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412FA-CD1C-4BE7-B83F-ADDCA4437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C9473-026E-4243-830E-531E8B56C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BF6D-9621-4804-AA2A-31843CCC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E111A-609C-4DB6-9FED-DE81451E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D586B-41F6-4B38-9453-3E89477D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0465E-C09D-4098-B60E-2B41B289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18E55-00AB-4042-B5C7-767B05AD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23852-DCE6-49F9-9C81-D9D5A2F7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B7E54-D06A-4006-A1B7-55BE76AB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617BB-FD8C-4010-AAC6-05D5A4FC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A0B16-D608-41FD-8431-F1BAAFB6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73D2C-E978-4947-823B-65F5F914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B99A7-0033-4258-8D5A-CCACEDB1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C942-DDEE-49C8-83BA-72930204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710C1-C8F2-4A17-AB6F-C6DB4D33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295AD-C79B-48CE-8C8E-4D986F094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89DFD-2846-4F27-BB85-3A3F1385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44F98-8D8B-42C7-A491-0C336F5A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A6A5A-2BB4-4167-8B17-6651AF8A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D563A-551C-42B0-A3AB-6B4AD370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30B03-D7C7-4909-8D13-80EADBC6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53F7A-E88A-4EE1-B27C-B66CB74C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0F794-A59C-47E2-8C0F-8759F24A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55A19-0BB9-410B-834D-1A58343C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4CE6-2DEB-49AA-B203-925C8AC0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3381B-0238-4D1C-A4BD-80377ACB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2B054-9049-4E8F-B2E9-105A08916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4E1F9-9FB5-4693-9E9F-1C39B3F36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27F5A-BCF5-486B-9254-9654145D1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93F1B-5FAE-4FA2-92D5-2CC7B2EF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8C2B9-818A-4A15-8815-948556F4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95215-5492-48EA-A7D9-EA4CB783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CF745-7C3F-4A23-B6D4-A7B150B3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0968C-3C43-4ECD-BD36-CD7C191F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15D4C-7ADA-43EB-9ADD-1219A14F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B527-D783-41B9-BB4A-536007DC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07CAD-5CAC-4B91-9064-63F2E57E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BB568-A3B1-4C46-83E5-32E1CEA8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89E4F-65F4-4208-95CF-A5D5CF61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3A5F4-C57B-4E1D-9899-9B872BCC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845A4-21FD-4730-9D2E-385C8B7C6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1160F-F39D-4F7E-8F0A-6B208FCAF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83C7A-67A5-4A0D-97E8-4A77552E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46621-38F8-4E65-8848-4C0969C9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CF508-4EE0-4D03-B964-B01715CA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BB8B2-0956-45F4-BCEF-A416CBB0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9A11-9585-4DE8-8BCA-E7DD4C50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E1B59-3088-4ACB-9912-F3FC675A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EA3F0-C621-41EA-878F-4C9384FB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70F35-F633-4AD2-8884-6F4F2856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184CB-88F5-4A00-9FF0-94EFF0B2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62C59-B8B4-441A-B22B-B150A6FE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5EA41-041C-47A9-8889-EF4281986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1E4FB-0700-4A89-98CC-49C61829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FF49CC-7DC9-4C37-AB0D-56129B656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FA4F96-7E2B-43D6-9A2A-76C87950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AD0FF3-D34B-4A93-8C12-2EAF35A0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slideLayout" Target="../slideLayouts/slideLayout145.xml"/><Relationship Id="rId35" Type="http://schemas.openxmlformats.org/officeDocument/2006/relationships/slideLayout" Target="../slideLayouts/slideLayout146.xml"/><Relationship Id="rId36" Type="http://schemas.openxmlformats.org/officeDocument/2006/relationships/slideLayout" Target="../slideLayouts/slideLayout147.xml"/><Relationship Id="rId37" Type="http://schemas.openxmlformats.org/officeDocument/2006/relationships/slideLayout" Target="../slideLayouts/slideLayout148.xml"/><Relationship Id="rId38" Type="http://schemas.openxmlformats.org/officeDocument/2006/relationships/slideLayout" Target="../slideLayouts/slideLayout149.xml"/><Relationship Id="rId39" Type="http://schemas.openxmlformats.org/officeDocument/2006/relationships/slideLayout" Target="../slideLayouts/slideLayout150.xml"/><Relationship Id="rId40" Type="http://schemas.openxmlformats.org/officeDocument/2006/relationships/slideLayout" Target="../slideLayouts/slideLayout151.xml"/><Relationship Id="rId41" Type="http://schemas.openxmlformats.org/officeDocument/2006/relationships/slideLayout" Target="../slideLayouts/slideLayout152.xml"/><Relationship Id="rId42" Type="http://schemas.openxmlformats.org/officeDocument/2006/relationships/slideLayout" Target="../slideLayouts/slideLayout153.xml"/><Relationship Id="rId43" Type="http://schemas.openxmlformats.org/officeDocument/2006/relationships/slideLayout" Target="../slideLayouts/slideLayout154.xml"/><Relationship Id="rId44" Type="http://schemas.openxmlformats.org/officeDocument/2006/relationships/slideLayout" Target="../slideLayouts/slideLayout155.xml"/><Relationship Id="rId4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slideLayout" Target="../slideLayouts/slideLayout157.xml"/><Relationship Id="rId32" Type="http://schemas.openxmlformats.org/officeDocument/2006/relationships/slideLayout" Target="../slideLayouts/slideLayout158.xml"/><Relationship Id="rId33" Type="http://schemas.openxmlformats.org/officeDocument/2006/relationships/slideLayout" Target="../slideLayouts/slideLayout159.xml"/><Relationship Id="rId34" Type="http://schemas.openxmlformats.org/officeDocument/2006/relationships/slideLayout" Target="../slideLayouts/slideLayout160.xml"/><Relationship Id="rId35" Type="http://schemas.openxmlformats.org/officeDocument/2006/relationships/slideLayout" Target="../slideLayouts/slideLayout161.xml"/><Relationship Id="rId36" Type="http://schemas.openxmlformats.org/officeDocument/2006/relationships/slideLayout" Target="../slideLayouts/slideLayout162.xml"/><Relationship Id="rId37" Type="http://schemas.openxmlformats.org/officeDocument/2006/relationships/slideLayout" Target="../slideLayouts/slideLayout163.xml"/><Relationship Id="rId38" Type="http://schemas.openxmlformats.org/officeDocument/2006/relationships/slideLayout" Target="../slideLayouts/slideLayout164.xml"/><Relationship Id="rId39" Type="http://schemas.openxmlformats.org/officeDocument/2006/relationships/slideLayout" Target="../slideLayouts/slideLayout165.xml"/><Relationship Id="rId40" Type="http://schemas.openxmlformats.org/officeDocument/2006/relationships/slideLayout" Target="../slideLayouts/slideLayout166.xml"/><Relationship Id="rId41" Type="http://schemas.openxmlformats.org/officeDocument/2006/relationships/slideLayout" Target="../slideLayouts/slideLayout167.xml"/><Relationship Id="rId42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0E9D-7D7D-4986-92B7-58FBEEF94F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4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84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57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B71E-5212-4839-93A7-CBAD122B7A9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A2C1-5281-4046-8311-A6143D448D6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0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1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2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2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3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3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3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3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3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776C-083F-431F-AB58-B3569DA0B7B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9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9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9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9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0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0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0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04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5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5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5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5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6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7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07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09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 type="dt" idx="3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 type="ftr" idx="3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 type="sldNum" idx="3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9F88-E520-4C64-925A-72AE63E6617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4"/>
    <p:sldLayoutId id="2147483806" r:id="rId35"/>
    <p:sldLayoutId id="2147483807" r:id="rId36"/>
    <p:sldLayoutId id="2147483808" r:id="rId37"/>
    <p:sldLayoutId id="2147483809" r:id="rId38"/>
    <p:sldLayoutId id="2147483810" r:id="rId39"/>
    <p:sldLayoutId id="2147483811" r:id="rId40"/>
    <p:sldLayoutId id="2147483812" r:id="rId41"/>
    <p:sldLayoutId id="2147483813" r:id="rId42"/>
    <p:sldLayoutId id="2147483814" r:id="rId43"/>
    <p:sldLayoutId id="2147483815" r:id="rId44"/>
    <p:sldLayoutId id="2147483816" r:id="rId4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144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7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148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149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150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151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2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53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5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67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16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0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1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2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3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4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5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7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8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9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0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1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2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3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4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5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6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187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dt" idx="4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 type="ftr" idx="4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 type="sldNum" idx="4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2A3E-962F-4C76-AF2A-C7C7D352884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1"/>
    <p:sldLayoutId id="2147483819" r:id="rId32"/>
    <p:sldLayoutId id="2147483820" r:id="rId33"/>
    <p:sldLayoutId id="2147483821" r:id="rId34"/>
    <p:sldLayoutId id="2147483822" r:id="rId35"/>
    <p:sldLayoutId id="2147483823" r:id="rId36"/>
    <p:sldLayoutId id="2147483824" r:id="rId37"/>
    <p:sldLayoutId id="2147483825" r:id="rId38"/>
    <p:sldLayoutId id="2147483826" r:id="rId39"/>
    <p:sldLayoutId id="2147483827" r:id="rId40"/>
    <p:sldLayoutId id="2147483828" r:id="rId41"/>
    <p:sldLayoutId id="2147483829" r:id="rId42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24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24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5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25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9A13-1240-4FB1-A238-E1F75097568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30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30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30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1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F108-8380-418B-A3ED-721EEE7B654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 type="ftr" idx="4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9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360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30B6-BC6A-456D-82A9-156CC927013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6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407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3" name="PlaceHolder 1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393D-1EB6-48A2-89E6-ED4A64CA07D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 type="dt" idx="5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EE94-4B6A-48D9-B3BC-AE3B7E29A03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67B7-99FC-45B7-9A32-3A279701F1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31E7-7C87-485B-BE6C-F1E91A2DF5D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3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879F-760F-4BBB-BE70-1BC4C117BC9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9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E86F-D984-432C-8725-8B0E1B48C4F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99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9606-4E2E-445E-9370-F0B191715C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356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A811-F852-481F-B126-200BE4F4C6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12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54AA-FD6F-4AF1-8C44-A90A0D108E6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5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8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3ED8-2BE9-4C5C-81AB-EB8DF2DB459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99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700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703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DD85-26BA-4A00-816F-525FD2FF6AB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747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750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2" name="PlaceHolder 1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sldNum" idx="24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A54A-5FE4-4BC0-874C-594DFB0052E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6FDA-B2F3-4828-940E-17E3AFEAAFA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95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4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7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1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2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4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9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7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2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99"/>
                </a:solidFill>
                <a:latin typeface="Arial"/>
              </a:rPr>
              <a:t>A Job For Life</a:t>
            </a:r>
            <a:endParaRPr b="0" lang="en-US" sz="8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uess which profession it is: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he works with children ________________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he works with patients ________________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he drives a car ____________________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she plays the piano ________________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he works in a hotel _______________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she makes phone calls _____________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she translates people orally ___________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he writes articles for a newspaper ______________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she cuts hair ________________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he flies a plane ______________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he works in a club and uses a mike _____________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e mends cars and lorries ________________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he sells things in a supermarket ____________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he looks after people in hospital ____________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STRESS LEAGU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403848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er                        8.3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lice officer            7.7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ournalist                 7.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ilot (civil)                7.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ntist                     7.3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tor                        7.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litician                  7.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ctor                      6.8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lm producer          6.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urse                       6.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refighter                6.3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p musician           6.3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acher                   6.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572000" y="2437920"/>
            <a:ext cx="4038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nager (commerce)          5.8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fessional footballer         5.8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hop assistant                     5.7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us driver                            5.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armer                                 4.8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oldier                                 4.7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ngineer                              4.3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airdresser                          4.3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retary                             4.3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rchitect                              4.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stman/woman                 4.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useum worker                  2.8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brarian                              2.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6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6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0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6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6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6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6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9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6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6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6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6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6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6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6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6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4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7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8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6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6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6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6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6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6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6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6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6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6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6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6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6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6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ay which are the best and worst paid jobs?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80" name=""/>
          <p:cNvGraphicFramePr/>
          <p:nvPr/>
        </p:nvGraphicFramePr>
        <p:xfrm>
          <a:off x="838080" y="2286000"/>
          <a:ext cx="8007480" cy="4100400"/>
        </p:xfrm>
        <a:graphic>
          <a:graphicData uri="http://schemas.openxmlformats.org/drawingml/2006/table">
            <a:tbl>
              <a:tblPr/>
              <a:tblGrid>
                <a:gridCol w="4003920"/>
                <a:gridCol w="4003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 nurse in a hospital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 highly paid job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 shop assistant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et a good salary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 worker in a factory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verpaid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 bank manager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et a lot of money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 dentist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aid a lot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 teacher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aid reasonably well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 professional footballer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 low-paid job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uclear scientist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ave a low income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 miner in the coalmine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nderpaid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9246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I hadn’t had a teach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2133360" y="2133360"/>
            <a:ext cx="6553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 name was Caroline Fo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he taught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as her favorite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thought for three dec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read my stories to the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sat beside her de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oved the way she sang to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even loved her t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3" name="" descr=""/>
          <p:cNvPicPr/>
          <p:nvPr/>
        </p:nvPicPr>
        <p:blipFill>
          <a:blip r:embed="rId1"/>
          <a:stretch/>
        </p:blipFill>
        <p:spPr>
          <a:xfrm>
            <a:off x="39528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684" name=""/>
          <p:cNvSpPr/>
          <p:nvPr/>
        </p:nvSpPr>
        <p:spPr>
          <a:xfrm>
            <a:off x="1747800" y="243540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2181600" y="2362320"/>
            <a:ext cx="4953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teachers they’re just laz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’s  what the people say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baby-sit till three o’clock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en they’re home all 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ink of those vacations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that time away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’d never had a teacher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’d still turn out okay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1965240" y="2435400"/>
            <a:ext cx="5507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had a lot of textb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left them on the shelf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s Foley taught with projects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rote some books ourselve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studied the Egyptians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Pharaoh of the sun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still have my cardboard pyramid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tomb of Achnaton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2036880" y="2506680"/>
            <a:ext cx="4953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teachers they’re just laz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’s  what the people say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baby-sit till three o’clock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en they’re home all day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ink of those vacations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that time away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’d never had a teacher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’d still turn out okay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1894320" y="2435400"/>
            <a:ext cx="5310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rarely lost her tempe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when she did we knew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later she’d apologiz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we’d say sorry too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wasn’t always perfec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she usually was kin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she had a way of holding up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irror to our minds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1965600" y="2506680"/>
            <a:ext cx="4953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teachers they’re just laz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’s  what the people say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baby-sit till three o’clock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en they’re home all day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ink of those vacations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that time away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’d never had a teacher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’d still turn out okay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1677960" y="2362320"/>
            <a:ext cx="5766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s Foley never marri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never had offspring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less you count the six hundr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cheered on to sing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rarely come to visit he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hardly ever write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she follows us around each da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sits with us each night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1693440" y="2133720"/>
            <a:ext cx="519012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lly is a scientis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ne, she reads the new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rah is a doctor now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il just gave up booze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met at the reun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alked about the pas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was your favorite teacher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as your favorite class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1550520" y="2060640"/>
            <a:ext cx="6413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ember Mr. Johnston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all played ancient Greek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s Hawthorne read a poem by Keats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ars ran down her cheeks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what about Miss Foley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 class was so much fun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as her favorite studen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say in unison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1965600" y="2435400"/>
            <a:ext cx="4953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teachers they’re just laz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’s  what the people say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baby-sit till three o’clock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en they’re home all day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ink of those vacations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that time away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’d never had a teacher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’d still turn out okay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1965240" y="2435400"/>
            <a:ext cx="5308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h ,you, who pay the taxes!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h ,you, who make the laws!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ember all your teache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cherish them because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ouldn’t be so self assured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, you wouldn’t be so smar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hadn’t had a Miss Fole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hold you in her heart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1835280" y="1854360"/>
            <a:ext cx="531324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teachers they’re just laz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what you often say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baby-sit till three o’clock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en they’re home all da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ink of those vacation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that time away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’d never had a teacher...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’d never had a teacher...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’d never had a teacher...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ho would I be toda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268827" fill="hold"/>
                                        <p:tgtEl>
                                          <p:spTgt spid="16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delay="26000"/>
                                    </p:stCondLst>
                                  </p:cTn>
                                  <p:tgtEl>
                                    <p:spTgt spid="16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75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2" dur="1" fill="hold">
                                    <p:stCondLst>
                                      <p:cond delay="20000"/>
                                    </p:stCondLst>
                                  </p:cTn>
                                  <p:tgtEl>
                                    <p:spTgt spid="16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85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20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20500"/>
                                    </p:stCondLst>
                                  </p:cTn>
                                  <p:tgtEl>
                                    <p:spTgt spid="16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00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2" dur="1" fill="hold">
                                    <p:stCondLst>
                                      <p:cond delay="19000"/>
                                    </p:stCondLst>
                                  </p:cTn>
                                  <p:tgtEl>
                                    <p:spTgt spid="16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90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19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19500"/>
                                    </p:stCondLst>
                                  </p:cTn>
                                  <p:tgtEl>
                                    <p:spTgt spid="16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10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10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2" dur="1" fill="hold">
                                    <p:stCondLst>
                                      <p:cond delay="19000"/>
                                    </p:stCondLst>
                                  </p:cTn>
                                  <p:tgtEl>
                                    <p:spTgt spid="16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305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19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7" dur="1" fill="hold">
                                    <p:stCondLst>
                                      <p:cond delay="19500"/>
                                    </p:stCondLst>
                                  </p:cTn>
                                  <p:tgtEl>
                                    <p:spTgt spid="16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20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2" dur="1" fill="hold">
                                    <p:stCondLst>
                                      <p:cond delay="20500"/>
                                    </p:stCondLst>
                                  </p:cTn>
                                  <p:tgtEl>
                                    <p:spTgt spid="16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725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20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10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delay="20500"/>
                                    </p:stCondLst>
                                  </p:cTn>
                                  <p:tgtEl>
                                    <p:spTgt spid="16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940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19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10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delay="19500"/>
                                    </p:stCondLst>
                                  </p:cTn>
                                  <p:tgtEl>
                                    <p:spTgt spid="16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145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20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7" dur="1" fill="hold">
                                    <p:stCondLst>
                                      <p:cond delay="20500"/>
                                    </p:stCondLst>
                                  </p:cTn>
                                  <p:tgtEl>
                                    <p:spTgt spid="16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Questions for discussio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hat grade did Caroline Foley teach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hat did the singer like about Miss Foley and her classes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hat kind of person was Miss Foley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ue/false state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Miss Foley taught the projec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The students didn’t write any books themselv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Miss Foley had a way of holding up a mirror to the students’ mind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Miss Foley was married and had some child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Her students rarely come to visit h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They always write her lette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General discu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Do you have a favorite teacher?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Has anyone of you ever wanted to become a teacher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Why do you think few young people choose the career of a teacher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Farme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 type="subTitle"/>
          </p:nvPr>
        </p:nvSpPr>
        <p:spPr>
          <a:xfrm>
            <a:off x="837720" y="1905120"/>
            <a:ext cx="6782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ppy, car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ds, grows, ga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provides people with fo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y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4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cientis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ever, absent-mind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, thinks, discov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job is import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es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7" name="" descr=""/>
          <p:cNvPicPr/>
          <p:nvPr/>
        </p:nvPicPr>
        <p:blipFill>
          <a:blip r:embed="rId5"/>
          <a:stretch/>
        </p:blipFill>
        <p:spPr>
          <a:xfrm>
            <a:off x="4952880" y="3124080"/>
            <a:ext cx="33228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etectiv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ever, attenti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arches, thinks, investiga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has clear intell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mir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0" name="" descr=""/>
          <p:cNvPicPr/>
          <p:nvPr/>
        </p:nvPicPr>
        <p:blipFill>
          <a:blip r:embed="rId1"/>
          <a:stretch/>
        </p:blipFill>
        <p:spPr>
          <a:xfrm>
            <a:off x="4038480" y="3657600"/>
            <a:ext cx="38102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o you know these word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A job 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A profession 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An occupation 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A career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reative, practic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nages, administrates, control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pervision is important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ciplan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3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426744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ournali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tive, talkativ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eaks, writes, ask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orms peop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gazi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6" name="" descr=""/>
          <p:cNvPicPr/>
          <p:nvPr/>
        </p:nvPicPr>
        <p:blipFill>
          <a:blip r:embed="rId1"/>
          <a:stretch/>
        </p:blipFill>
        <p:spPr>
          <a:xfrm>
            <a:off x="4267080" y="3505320"/>
            <a:ext cx="411480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Designer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reative, fashionabl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urprises, inspires, draw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akes interior nic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atisfact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719" name="" descr=""/>
          <p:cNvPicPr/>
          <p:nvPr/>
        </p:nvPicPr>
        <p:blipFill>
          <a:blip r:embed="rId5"/>
          <a:stretch/>
        </p:blipFill>
        <p:spPr>
          <a:xfrm>
            <a:off x="4419720" y="3048120"/>
            <a:ext cx="2997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otball play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ous, hard-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s, wins, t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ans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2" name="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32036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rcheologist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ious, w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ies, invents, expl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s the p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5" name="" descr=""/>
          <p:cNvPicPr/>
          <p:nvPr/>
        </p:nvPicPr>
        <p:blipFill>
          <a:blip r:embed="rId1"/>
          <a:stretch/>
        </p:blipFill>
        <p:spPr>
          <a:xfrm>
            <a:off x="4114800" y="3048120"/>
            <a:ext cx="434340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The Lesson is over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nk you for your work to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odby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job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is the work that a person does regularly in order to earn money.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profess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"/>
              </a:rPr>
              <a:t>is a job that requires special training, often a university education and brings a rather high social status.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 occup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66"/>
                </a:solidFill>
                <a:latin typeface="Arial"/>
              </a:rPr>
              <a:t>is a job or profession.</a:t>
            </a:r>
            <a:endParaRPr b="0" lang="en-US" sz="8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career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"/>
              </a:rPr>
              <a:t>is the series of jobs that a person does in his or her life usually in one and the same field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9" name="" descr=""/>
          <p:cNvPicPr/>
          <p:nvPr/>
        </p:nvPicPr>
        <p:blipFill>
          <a:blip r:embed="rId1"/>
          <a:stretch/>
        </p:blipFill>
        <p:spPr>
          <a:xfrm>
            <a:off x="1752480" y="457200"/>
            <a:ext cx="6096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71" name=""/>
          <p:cNvGraphicFramePr/>
          <p:nvPr/>
        </p:nvGraphicFramePr>
        <p:xfrm>
          <a:off x="838080" y="2362320"/>
          <a:ext cx="8007480" cy="425592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ctors, which are important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le 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male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b satisfactio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ey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endly atmospher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od conditions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ining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vel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ere would they like to wor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73" name=""/>
          <p:cNvGraphicFramePr/>
          <p:nvPr/>
        </p:nvGraphicFramePr>
        <p:xfrm>
          <a:off x="838080" y="2362320"/>
          <a:ext cx="7693200" cy="3724200"/>
        </p:xfrm>
        <a:graphic>
          <a:graphicData uri="http://schemas.openxmlformats.org/drawingml/2006/table">
            <a:tbl>
              <a:tblPr/>
              <a:tblGrid>
                <a:gridCol w="2563920"/>
                <a:gridCol w="2565000"/>
                <a:gridCol w="2564280"/>
              </a:tblGrid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c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le %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male %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home are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4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lswhere in U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Lond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broad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 Маслова</cp:lastModifiedBy>
  <dcterms:modified xsi:type="dcterms:W3CDTF">2011-01-21T21:42:2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